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837720" y="6095880"/>
            <a:ext cx="785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03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У СОШ № 37 г. Ульяновск Ямкина Е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93752280" y="1460520"/>
            <a:ext cx="171988200" cy="21589560"/>
            <a:chOff x="-93752280" y="1460520"/>
            <a:chExt cx="171988200" cy="21589560"/>
          </a:xfrm>
        </p:grpSpPr>
        <p:sp>
          <p:nvSpPr>
            <p:cNvPr id="44" name=""/>
            <p:cNvSpPr/>
            <p:nvPr/>
          </p:nvSpPr>
          <p:spPr>
            <a:xfrm>
              <a:off x="3271680" y="270648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93752280" y="146052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6553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Times New Roman"/>
              </a:rPr>
              <a:t>id 0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image" Target="../media/image27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6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6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6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28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29.wmf"/><Relationship Id="rId30" Type="http://schemas.openxmlformats.org/officeDocument/2006/relationships/image" Target="../media/image30.wmf"/><Relationship Id="rId3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Элементы компьютерного моде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762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понятие модели (определение)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1371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понятие классификации моделей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1981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различные способы классификации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2514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классификация по способу представления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304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необходимость моделирования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3581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этапы моделирования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1148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пример модел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4648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логическая зад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51814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актические зад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609480" y="2819520"/>
            <a:ext cx="158436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2743200" y="44197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6019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Вперед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актически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9907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графическом редактор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in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дать модель светоф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6002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Для построения использовать графические примити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актически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990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текстовом редактор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rd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дать модель пирам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1523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Для построения использовать предварительно созданный «кубик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62920" y="533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актически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990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текстовом редактор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rd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дать модель пирам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1523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Для построения использовать предварительно созданный «кубик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533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2 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актически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990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электронных таблица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cel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дать модель биорит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Для построения использовать предлож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актически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609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 мере работы заполняйте следующую таблиц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1143000"/>
          <a:ext cx="7772400" cy="4952880"/>
        </p:xfrm>
        <a:graphic>
          <a:graphicData uri="http://schemas.openxmlformats.org/drawingml/2006/table">
            <a:tbl>
              <a:tblPr/>
              <a:tblGrid>
                <a:gridCol w="2438280"/>
                <a:gridCol w="1523880"/>
                <a:gridCol w="1447920"/>
                <a:gridCol w="2362320"/>
              </a:tblGrid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тоф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рам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орит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ификация по области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ификация по временному факто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ческая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ификация по способу пред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ые, знаковые, компьютерны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 компьютерного экспери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 W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ость анали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закрасилась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од: какая польза от данной модел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онятие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838080"/>
            <a:ext cx="7696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ль – упрощенное понятие о реальном объекте, процессе или явлен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лирование – построение моделей для исследования и изучения объектов, процессов, явле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5627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обус – модель Земного ш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4648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ь танка – игрушка у младшего бра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tn01329_" descr=""/>
          <p:cNvPicPr/>
          <p:nvPr/>
        </p:nvPicPr>
        <p:blipFill>
          <a:blip r:embed="rId1"/>
          <a:stretch/>
        </p:blipFill>
        <p:spPr>
          <a:xfrm>
            <a:off x="6172200" y="3048120"/>
            <a:ext cx="1892160" cy="1189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1361880" cy="14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онятие классификации мод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9907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истематизация, разделение объектов на родственные группы, имеющие один или несколько общих призна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tn00333_" descr=""/>
          <p:cNvPicPr/>
          <p:nvPr/>
        </p:nvPicPr>
        <p:blipFill>
          <a:blip r:embed="rId1"/>
          <a:stretch/>
        </p:blipFill>
        <p:spPr>
          <a:xfrm>
            <a:off x="3124080" y="2438280"/>
            <a:ext cx="1184400" cy="1641600"/>
          </a:xfrm>
          <a:prstGeom prst="rect">
            <a:avLst/>
          </a:prstGeom>
          <a:ln w="0">
            <a:noFill/>
          </a:ln>
        </p:spPr>
      </p:pic>
      <p:pic>
        <p:nvPicPr>
          <p:cNvPr id="108" name="tn00686_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1952640" cy="2268720"/>
          </a:xfrm>
          <a:prstGeom prst="rect">
            <a:avLst/>
          </a:prstGeom>
          <a:ln w="0">
            <a:noFill/>
          </a:ln>
        </p:spPr>
      </p:pic>
      <p:pic>
        <p:nvPicPr>
          <p:cNvPr id="109" name="in00357_" descr=""/>
          <p:cNvPicPr/>
          <p:nvPr/>
        </p:nvPicPr>
        <p:blipFill>
          <a:blip r:embed="rId3"/>
          <a:stretch/>
        </p:blipFill>
        <p:spPr>
          <a:xfrm>
            <a:off x="2590920" y="4191120"/>
            <a:ext cx="151920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tn00332_" descr=""/>
          <p:cNvPicPr/>
          <p:nvPr/>
        </p:nvPicPr>
        <p:blipFill>
          <a:blip r:embed="rId4"/>
          <a:stretch/>
        </p:blipFill>
        <p:spPr>
          <a:xfrm>
            <a:off x="380880" y="2666880"/>
            <a:ext cx="1676520" cy="833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95280" y="6019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ашины, они движутся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4191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студенты, они учатся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e03166_" descr=""/>
          <p:cNvPicPr/>
          <p:nvPr/>
        </p:nvPicPr>
        <p:blipFill>
          <a:blip r:embed="rId5"/>
          <a:stretch/>
        </p:blipFill>
        <p:spPr>
          <a:xfrm>
            <a:off x="6400800" y="1600200"/>
            <a:ext cx="2346480" cy="247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азличные способы классиф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371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ласти исполь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2743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ременному факто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952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представл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Учебные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: обучающая программа, наглядное пособ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981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Опытные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: модель кораб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981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Научно-технические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: динамо-машина, осциллогра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981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Игровые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: игра «Зарница», военные 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981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Имитационные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: подопытные мыш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3526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Статические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: одномоментный срез – мед. карточка школьника по конкретной дате, запись в тетради по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3526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Динамические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: изменяющиеся во времени – градусник, мед. карточка школьника со всеми запис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486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Материальные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: можно «потрогать рукам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5486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Информационные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: построенные на информации, характеризуют свойство и состояние объ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лассификация по способу предст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838080"/>
          <a:ext cx="8229600" cy="4648320"/>
        </p:xfrm>
        <a:graphic>
          <a:graphicData uri="http://schemas.openxmlformats.org/drawingml/2006/table">
            <a:tbl>
              <a:tblPr/>
              <a:tblGrid>
                <a:gridCol w="2438280"/>
                <a:gridCol w="1905120"/>
                <a:gridCol w="2133360"/>
                <a:gridCol w="1752840"/>
              </a:tblGrid>
              <a:tr h="533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б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омпьютер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bs00559_" descr=""/>
          <p:cNvPicPr/>
          <p:nvPr/>
        </p:nvPicPr>
        <p:blipFill>
          <a:blip r:embed="rId1"/>
          <a:stretch/>
        </p:blipFill>
        <p:spPr>
          <a:xfrm>
            <a:off x="5029200" y="2590920"/>
            <a:ext cx="1765440" cy="1001520"/>
          </a:xfrm>
          <a:prstGeom prst="rect">
            <a:avLst/>
          </a:prstGeom>
          <a:ln w="0">
            <a:noFill/>
          </a:ln>
        </p:spPr>
      </p:pic>
      <p:pic>
        <p:nvPicPr>
          <p:cNvPr id="130" name="bs00580_" descr=""/>
          <p:cNvPicPr/>
          <p:nvPr/>
        </p:nvPicPr>
        <p:blipFill>
          <a:blip r:embed="rId2"/>
          <a:stretch/>
        </p:blipFill>
        <p:spPr>
          <a:xfrm>
            <a:off x="3124080" y="3124080"/>
            <a:ext cx="1602000" cy="1349640"/>
          </a:xfrm>
          <a:prstGeom prst="rect">
            <a:avLst/>
          </a:prstGeom>
          <a:ln w="0">
            <a:noFill/>
          </a:ln>
        </p:spPr>
      </p:pic>
      <p:pic>
        <p:nvPicPr>
          <p:cNvPr id="131" name="en00354_" descr=""/>
          <p:cNvPicPr/>
          <p:nvPr/>
        </p:nvPicPr>
        <p:blipFill>
          <a:blip r:embed="rId3"/>
          <a:stretch/>
        </p:blipFill>
        <p:spPr>
          <a:xfrm>
            <a:off x="5105520" y="3886200"/>
            <a:ext cx="1682640" cy="1317600"/>
          </a:xfrm>
          <a:prstGeom prst="rect">
            <a:avLst/>
          </a:prstGeom>
          <a:ln w="0">
            <a:noFill/>
          </a:ln>
        </p:spPr>
      </p:pic>
      <p:pic>
        <p:nvPicPr>
          <p:cNvPr id="132" name="bd07153_" descr=""/>
          <p:cNvPicPr/>
          <p:nvPr/>
        </p:nvPicPr>
        <p:blipFill>
          <a:blip r:embed="rId4"/>
          <a:stretch/>
        </p:blipFill>
        <p:spPr>
          <a:xfrm>
            <a:off x="7391520" y="4038480"/>
            <a:ext cx="104436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bd05584_" descr=""/>
          <p:cNvPicPr/>
          <p:nvPr/>
        </p:nvPicPr>
        <p:blipFill>
          <a:blip r:embed="rId5"/>
          <a:stretch/>
        </p:blipFill>
        <p:spPr>
          <a:xfrm>
            <a:off x="7391520" y="2590920"/>
            <a:ext cx="102708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bs00508_" descr=""/>
          <p:cNvPicPr/>
          <p:nvPr/>
        </p:nvPicPr>
        <p:blipFill>
          <a:blip r:embed="rId6"/>
          <a:stretch/>
        </p:blipFill>
        <p:spPr>
          <a:xfrm>
            <a:off x="2209680" y="2819520"/>
            <a:ext cx="722520" cy="761760"/>
          </a:xfrm>
          <a:prstGeom prst="rect">
            <a:avLst/>
          </a:prstGeom>
          <a:ln w="0">
            <a:noFill/>
          </a:ln>
        </p:spPr>
      </p:pic>
      <p:pic>
        <p:nvPicPr>
          <p:cNvPr id="135" name="bl00381_" descr=""/>
          <p:cNvPicPr/>
          <p:nvPr/>
        </p:nvPicPr>
        <p:blipFill>
          <a:blip r:embed="rId7"/>
          <a:stretch/>
        </p:blipFill>
        <p:spPr>
          <a:xfrm>
            <a:off x="685800" y="4114800"/>
            <a:ext cx="2073240" cy="1158840"/>
          </a:xfrm>
          <a:prstGeom prst="rect">
            <a:avLst/>
          </a:prstGeom>
          <a:ln w="0">
            <a:noFill/>
          </a:ln>
        </p:spPr>
      </p:pic>
      <p:pic>
        <p:nvPicPr>
          <p:cNvPr id="136" name="mp00640_" descr=""/>
          <p:cNvPicPr/>
          <p:nvPr/>
        </p:nvPicPr>
        <p:blipFill>
          <a:blip r:embed="rId8"/>
          <a:stretch/>
        </p:blipFill>
        <p:spPr>
          <a:xfrm>
            <a:off x="609480" y="2514600"/>
            <a:ext cx="1524240" cy="151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еобходимость моде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914400"/>
            <a:ext cx="7086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ая деятельность человека может включать в себя построение моделей. Чаще всего это происходит неосознанно. Человек подстраивает свое поведение под реальную ситуацию. Например,  чтобы создать архитектурную композицию, необходимо спроектировать ее – построить модель памятника, до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24480" y="3809880"/>
            <a:ext cx="1428840" cy="1847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2667240" cy="200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Этапы моде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143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Постановка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514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2. Разработка мод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962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3. Компьютерный экспериме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334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4. Анализ результ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5880" y="1143000"/>
          <a:ext cx="1798920" cy="44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143000"/>
                    <a:ext cx="179892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095880" y="1752480"/>
          <a:ext cx="1712880" cy="338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752480"/>
                    <a:ext cx="171288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791320" y="2362320"/>
          <a:ext cx="2666880" cy="186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2362320"/>
                    <a:ext cx="2666880" cy="18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095880" y="2362320"/>
          <a:ext cx="1928880" cy="224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2362320"/>
                    <a:ext cx="1928880" cy="22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724280" y="10666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Изучить пищеварительный тракт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514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Пищев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962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Расчет параметров на П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334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Построение граф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167652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Если результат не соответствует цели – перейти на разработку модели или на компьютерный экспериме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095880" y="2590920"/>
          <a:ext cx="1913040" cy="184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590920"/>
                    <a:ext cx="191304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имер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600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Как поставить задач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60020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Как можно классифицировать данную модел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7524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Этапы моделир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524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Возврат к этапу разработк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6765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Возврат к компьютерному эксперимент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206960" y="762120"/>
          <a:ext cx="4937040" cy="45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6960" y="762120"/>
                    <a:ext cx="493704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Логическая з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3520" y="1447920"/>
          <a:ext cx="8229600" cy="406404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  <a:gridCol w="1828800"/>
                <a:gridCol w="1447920"/>
                <a:gridCol w="18288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нц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удож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зык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ва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до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дре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867280" y="2286000"/>
          <a:ext cx="619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86000"/>
                    <a:ext cx="619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943600" y="3886200"/>
          <a:ext cx="6192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3886200"/>
                    <a:ext cx="619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7543800" y="3124080"/>
          <a:ext cx="61920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3124080"/>
                    <a:ext cx="619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267080" y="3124080"/>
          <a:ext cx="61920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3124080"/>
                    <a:ext cx="619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7467480" y="4724280"/>
          <a:ext cx="61920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4724280"/>
                    <a:ext cx="619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467480" y="2286000"/>
          <a:ext cx="619200" cy="76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67480" y="2286000"/>
                    <a:ext cx="619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267080" y="3886200"/>
          <a:ext cx="619200" cy="76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3886200"/>
                    <a:ext cx="619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514600" y="3886200"/>
          <a:ext cx="619200" cy="76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14600" y="3886200"/>
                    <a:ext cx="619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267080" y="2286000"/>
          <a:ext cx="61920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67080" y="2286000"/>
                    <a:ext cx="619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en00349_" descr=""/>
          <p:cNvPicPr/>
          <p:nvPr/>
        </p:nvPicPr>
        <p:blipFill>
          <a:blip r:embed="rId19"/>
          <a:stretch/>
        </p:blipFill>
        <p:spPr>
          <a:xfrm>
            <a:off x="7238880" y="3962520"/>
            <a:ext cx="1219320" cy="68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2590920" y="4724280"/>
          <a:ext cx="618840" cy="762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590920" y="4724280"/>
                    <a:ext cx="6188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943600" y="4724280"/>
          <a:ext cx="619200" cy="762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943600" y="4724280"/>
                    <a:ext cx="619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514600" y="3124080"/>
          <a:ext cx="619200" cy="7621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514600" y="3124080"/>
                    <a:ext cx="619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962520" y="4724280"/>
          <a:ext cx="1195200" cy="7336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962520" y="4724280"/>
                    <a:ext cx="119520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715000" y="2971800"/>
          <a:ext cx="1066680" cy="10368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715000" y="2971800"/>
                    <a:ext cx="106668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30"/>
          <a:stretch/>
        </p:blipFill>
        <p:spPr>
          <a:xfrm>
            <a:off x="2514600" y="2286000"/>
            <a:ext cx="614520" cy="76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nka</cp:lastModifiedBy>
  <dcterms:modified xsi:type="dcterms:W3CDTF">2004-03-22T21:38:17Z</dcterms:modified>
  <cp:revision>70</cp:revision>
  <dc:subject/>
  <dc:title>Презентация PowerPoint</dc:title>
</cp:coreProperties>
</file>